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31678409"/>
        <c:axId val="34533432"/>
      </c:scatterChart>
      <c:valAx>
        <c:axId val="31678409"/>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34533432"/>
        <c:crossesAt val="0"/>
        <c:crossBetween val="midCat"/>
      </c:valAx>
      <c:valAx>
        <c:axId val="34533432"/>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31678409"/>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79322395"/>
        <c:axId val="25183679"/>
      </c:scatterChart>
      <c:valAx>
        <c:axId val="79322395"/>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25183679"/>
        <c:crossesAt val="0"/>
        <c:crossBetween val="midCat"/>
      </c:valAx>
      <c:valAx>
        <c:axId val="25183679"/>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79322395"/>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